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CAE1-0753-4209-B494-499EF713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D825-3606-4BA6-89A2-C6EA9D36F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7146-1F15-47DD-B3E6-9BD67689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22F1-3CAB-4182-A3F5-D4E96D32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842-D6A7-46FB-9F73-DCEB2E3D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9DE-0C09-4602-9113-A5DF038B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0E8-1A79-487C-BBE0-AF231AB9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D2D-9AC7-456E-9329-20CDD0B0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DF9-0905-4CDC-B3BB-78B284B7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74C-C1D1-4268-B805-631F6E71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7E9-F2E0-44E4-8D07-50EC28F4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7DB-46BB-4A53-AA31-99BA0625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323-96D5-4F7E-BFED-D3ED1333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A59E-C41A-4D04-BD87-8402A054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08B-879B-4709-B469-358705E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AC4-9D57-4F7B-86B7-5D6025A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97EB-D4DE-46A2-9B32-CD68A18B4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hyperlink" Target="http://upload.wikimedia.org/wikipedia/commons/c/c3/37_Lyndon_Johnson_3x4.jpg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8.jpeg"/><Relationship Id="rId17" Type="http://schemas.openxmlformats.org/officeDocument/2006/relationships/image" Target="../media/image7.jpeg"/><Relationship Id="rId18" Type="http://schemas.openxmlformats.org/officeDocument/2006/relationships/image" Target="../media/image8.jpeg"/><Relationship Id="rId19" Type="http://schemas.openxmlformats.org/officeDocument/2006/relationships/image" Target="../media/image9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hyperlink" Target="http://www.google.com/imgres?imgurl=http://fineartamerica.com/images-small/marilyn-monroes-colors--mike-grubb.jpg&amp;imgrefurl=http://fineartamerica.com/featured/marilyn-monroes-colors--mike-grubb.html&amp;usg=__mIWfrYpPVH9v1R5QJa69BoZB0AQ=&amp;h=180&amp;w=129&amp;sz=11&amp;hl=en&amp;start=33&amp;zoom=1&amp;itbs=1&amp;tbnid=F7yWeLRhbBNYtM:&amp;tbnh=101&amp;tbnw=72&amp;prev=/search%3Fq%3Dmarilyn%2Bmonroe%2Bcolor%2Bart%26start%3D20%26hl%3Den%26sa%3DN%26gbv%3D2%26ndsp%3D20%26biw%3D1260%26bih%3D575%26tbm%3Disch&amp;ei=pMq-TY61NsrogQfwq5mXBw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www.time.com/time/2003/jfk/photoessay/3.html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time.com/time/2003/jfk/photoessay/6.html" TargetMode="External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24.jpeg"/><Relationship Id="rId18" Type="http://schemas.openxmlformats.org/officeDocument/2006/relationships/image" Target="../media/image25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11.jpeg"/><Relationship Id="rId25" Type="http://schemas.openxmlformats.org/officeDocument/2006/relationships/image" Target="../media/image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aving lunch with Lady Seymou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447920" y="0"/>
            <a:ext cx="761760" cy="3808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4864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731520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Lockton (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Lockt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>
            <a:hlinkClick r:id="rId1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President Kennedy, head and shoulders portrait photograph, looking up. Photograph distributed by the White House. "/>
          <p:cNvPicPr/>
          <p:nvPr/>
        </p:nvPicPr>
        <p:blipFill>
          <a:blip r:embed="rId3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152280" y="365760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ried to </a:t>
            </a:r>
            <a:r>
              <a:rPr b="0" lang="en-US" sz="800" spc="-1" strike="noStrike">
                <a:solidFill>
                  <a:srgbClr val="0070c0"/>
                </a:solidFill>
                <a:latin typeface="Arial"/>
              </a:rPr>
              <a:t>Elihu Lockton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a6a6a6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 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8" descr="File:37 Lyndon Johnson 3x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9"/>
          <p:cNvSpPr/>
          <p:nvPr/>
        </p:nvSpPr>
        <p:spPr>
          <a:xfrm>
            <a:off x="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aving lunch with Lady Seymour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June 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dy Seymou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at time would you like me to come over for our lunch today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 5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9" descr="Robert F. Kennedy - Photo"/>
          <p:cNvPicPr/>
          <p:nvPr/>
        </p:nvPicPr>
        <p:blipFill>
          <a:blip r:embed="rId6"/>
          <a:stretch/>
        </p:blipFill>
        <p:spPr>
          <a:xfrm>
            <a:off x="2133720" y="3200400"/>
            <a:ext cx="393480" cy="5364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hu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orry dear, I  have so much work to do that I worked through lunch and didn’t even realize it, and unfortunately I must work till late tonight:(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lihu is out at work yet again and I cannot seem to get in touch with Lady Seymour .. What a lonely afterno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4" descr="President Kennedy, head and shoulders portrait photograph, looking up. Photograph distributed by the White House. "/>
          <p:cNvPicPr/>
          <p:nvPr/>
        </p:nvPicPr>
        <p:blipFill>
          <a:blip r:embed="rId8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Beth made her  scrumpcious apple pie for dessert tonight I can’t wait to have a slice, her apple is my favorite dessert: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30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6" descr="President Kennedy, head and shoulders portrait photograph, looking up. Photograph distributed by the White House. "/>
          <p:cNvPicPr/>
          <p:nvPr/>
        </p:nvPicPr>
        <p:blipFill>
          <a:blip r:embed="rId9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e Lockt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raveling back to New York today  .. I cant wait to see my gorgeous house, ohh  how I have missed you sooo much!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77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0" descr="http://www.curly-hair-styles-magazine.com/images/marilyn-monroe-hair-style-06.jpg"/>
          <p:cNvPicPr/>
          <p:nvPr/>
        </p:nvPicPr>
        <p:blipFill>
          <a:blip r:embed="rId10"/>
          <a:stretch/>
        </p:blipFill>
        <p:spPr>
          <a:xfrm>
            <a:off x="152280" y="5335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0" descr="http://www.curly-hair-styles-magazine.com/images/marilyn-monroe-hair-style-06.jpg"/>
          <p:cNvPicPr/>
          <p:nvPr/>
        </p:nvPicPr>
        <p:blipFill>
          <a:blip r:embed="rId11"/>
          <a:stretch/>
        </p:blipFill>
        <p:spPr>
          <a:xfrm>
            <a:off x="2133720" y="2438280"/>
            <a:ext cx="457200" cy="544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0" descr="http://www.curly-hair-styles-magazine.com/images/marilyn-monroe-hair-style-06.jpg"/>
          <p:cNvPicPr/>
          <p:nvPr/>
        </p:nvPicPr>
        <p:blipFill>
          <a:blip r:embed="rId12"/>
          <a:stretch/>
        </p:blipFill>
        <p:spPr>
          <a:xfrm>
            <a:off x="2133720" y="4495680"/>
            <a:ext cx="457200" cy="544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0" descr="http://www.curly-hair-styles-magazine.com/images/marilyn-monroe-hair-style-06.jpg"/>
          <p:cNvPicPr/>
          <p:nvPr/>
        </p:nvPicPr>
        <p:blipFill>
          <a:blip r:embed="rId13"/>
          <a:stretch/>
        </p:blipFill>
        <p:spPr>
          <a:xfrm>
            <a:off x="2133720" y="5181480"/>
            <a:ext cx="447480" cy="53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0" descr="http://www.curly-hair-styles-magazine.com/images/marilyn-monroe-hair-style-06.jpg"/>
          <p:cNvPicPr/>
          <p:nvPr/>
        </p:nvPicPr>
        <p:blipFill>
          <a:blip r:embed="rId14"/>
          <a:stretch/>
        </p:blipFill>
        <p:spPr>
          <a:xfrm>
            <a:off x="2133720" y="5791320"/>
            <a:ext cx="447480" cy="53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6" descr="http://wwwimage.cbsnews.com/images/2005/02/11/image673269.jpg"/>
          <p:cNvPicPr/>
          <p:nvPr/>
        </p:nvPicPr>
        <p:blipFill>
          <a:blip r:embed="rId15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8" descr="http://4.bp.blogspot.com/_ouxxa0eFam8/SgGNMVt3soI/AAAAAAAACeU/Euij8VrDvew/s400/Mom+Ann+%26+Marilyn.jpg"/>
          <p:cNvPicPr/>
          <p:nvPr/>
        </p:nvPicPr>
        <p:blipFill>
          <a:blip r:embed="rId16"/>
          <a:stretch/>
        </p:blipFill>
        <p:spPr>
          <a:xfrm>
            <a:off x="609480" y="53341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6"/>
          <p:cNvSpPr/>
          <p:nvPr/>
        </p:nvSpPr>
        <p:spPr>
          <a:xfrm>
            <a:off x="537120" y="586728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d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ym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6" descr="http://wwwimage.cbsnews.com/images/2005/02/11/image673269.jpg"/>
          <p:cNvPicPr/>
          <p:nvPr/>
        </p:nvPicPr>
        <p:blipFill>
          <a:blip r:embed="rId17"/>
          <a:stretch/>
        </p:blipFill>
        <p:spPr>
          <a:xfrm>
            <a:off x="2133720" y="38862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8" descr="http://4.bp.blogspot.com/_ouxxa0eFam8/SgGNMVt3soI/AAAAAAAACeU/Euij8VrDvew/s400/Mom+Ann+%26+Marilyn.jpg"/>
          <p:cNvPicPr/>
          <p:nvPr/>
        </p:nvPicPr>
        <p:blipFill>
          <a:blip r:embed="rId18"/>
          <a:stretch/>
        </p:blipFill>
        <p:spPr>
          <a:xfrm>
            <a:off x="2133720" y="32004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" descr="http://topwebtoday.files.wordpress.com/2010/06/new-facebook-notifications-2.jpg"/>
          <p:cNvPicPr/>
          <p:nvPr/>
        </p:nvPicPr>
        <p:blipFill>
          <a:blip r:embed="rId19"/>
          <a:stretch/>
        </p:blipFill>
        <p:spPr>
          <a:xfrm>
            <a:off x="0" y="0"/>
            <a:ext cx="1447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out M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aving lunch with Lady Seymou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>
            <a:hlinkClick r:id="rId1" action="ppaction://hlinksldjump"/>
          </p:cNvPr>
          <p:cNvSpPr/>
          <p:nvPr/>
        </p:nvSpPr>
        <p:spPr>
          <a:xfrm>
            <a:off x="1371600" y="0"/>
            <a:ext cx="762120" cy="380880"/>
          </a:xfrm>
          <a:prstGeom prst="rect">
            <a:avLst/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5562720" y="0"/>
            <a:ext cx="190476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7391520" y="0"/>
            <a:ext cx="91440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ne Lockton (7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nne Lockton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152280" y="3581280"/>
            <a:ext cx="16002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ried to </a:t>
            </a:r>
            <a:r>
              <a:rPr b="0" lang="en-US" sz="800" spc="-1" strike="noStrike">
                <a:solidFill>
                  <a:srgbClr val="0070c0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133720" y="1905120"/>
            <a:ext cx="3124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 Lockt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ya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838080" y="533412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Colorful Portraits: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Elihu and I&lt;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2133720" y="5105520"/>
            <a:ext cx="426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12)578-3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6" descr="http://www.curly-hair-styles-magazine.com/images/marilyn-monroe-hair-style-06.jpg"/>
          <p:cNvPicPr/>
          <p:nvPr/>
        </p:nvPicPr>
        <p:blipFill>
          <a:blip r:embed="rId4"/>
          <a:stretch/>
        </p:blipFill>
        <p:spPr>
          <a:xfrm>
            <a:off x="152280" y="533520"/>
            <a:ext cx="1600200" cy="190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http://www.kenheyman.com/imgs/homepage/mm_am.jpg"/>
          <p:cNvPicPr/>
          <p:nvPr/>
        </p:nvPicPr>
        <p:blipFill>
          <a:blip r:embed="rId5"/>
          <a:stretch/>
        </p:blipFill>
        <p:spPr>
          <a:xfrm>
            <a:off x="228600" y="60199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5" descr="http://t2.gstatic.com/images?q=tbn:ANd9GcTT15RtbL9tMP82qMjgxDbOYcbkTv56txH2Jq8guxdojted93RyKrOTFi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525780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4"/>
          <p:cNvSpPr/>
          <p:nvPr/>
        </p:nvSpPr>
        <p:spPr>
          <a:xfrm>
            <a:off x="2133720" y="320040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name is Anne Lockton and I live in New York. I have  a wonderful husband  who treats me very well, his name is Elihu Lockton. I have one maid named Becky  and had just recently bought two slaves . I am 45 years old and have no children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7" descr="http://topwebtoday.files.wordpress.com/2010/06/new-facebook-notifications-2.jpg"/>
          <p:cNvPicPr/>
          <p:nvPr/>
        </p:nvPicPr>
        <p:blipFill>
          <a:blip r:embed="rId8"/>
          <a:stretch/>
        </p:blipFill>
        <p:spPr>
          <a:xfrm>
            <a:off x="0" y="0"/>
            <a:ext cx="1447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76212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762120" y="6172200"/>
            <a:ext cx="1066680" cy="457200"/>
          </a:xfrm>
          <a:prstGeom prst="rect">
            <a:avLst/>
          </a:prstGeom>
          <a:noFill/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lorful Portraits: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447920" y="0"/>
            <a:ext cx="761760" cy="3808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71500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467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685800" y="15238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nne Lockt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685800" y="47242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 Lockton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2057400" y="617220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ihu and I&lt;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8" descr="President Kennedy, head and shoulders portrait photograph, looking up. Photograph distributed by the White House. "/>
          <p:cNvPicPr/>
          <p:nvPr/>
        </p:nvPicPr>
        <p:blipFill>
          <a:blip r:embed="rId3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e Lockt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aving lunch with Lady Seym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1" descr="President Kennedy, head and shoulders portrait photograph, looking up. Photograph distributed by the White House. "/>
          <p:cNvPicPr/>
          <p:nvPr/>
        </p:nvPicPr>
        <p:blipFill>
          <a:blip r:embed="rId4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3" descr="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5" descr="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7" descr="oaththp"/>
          <p:cNvPicPr/>
          <p:nvPr/>
        </p:nvPicPr>
        <p:blipFill>
          <a:blip r:embed="rId9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1" descr="JohnFKennedy_FrankSinatra"/>
          <p:cNvPicPr/>
          <p:nvPr/>
        </p:nvPicPr>
        <p:blipFill>
          <a:blip r:embed="rId10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3" descr="grmykthp"/>
          <p:cNvPicPr/>
          <p:nvPr/>
        </p:nvPicPr>
        <p:blipFill>
          <a:blip r:embed="rId11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5" descr="glennthp"/>
          <p:cNvPicPr/>
          <p:nvPr/>
        </p:nvPicPr>
        <p:blipFill>
          <a:blip r:embed="rId12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7" descr="http://images.starpulse.com/Photos/Previews/Marilyn-Monroe-pb03.jpg"/>
          <p:cNvPicPr/>
          <p:nvPr/>
        </p:nvPicPr>
        <p:blipFill>
          <a:blip r:embed="rId13"/>
          <a:stretch/>
        </p:blipFill>
        <p:spPr>
          <a:xfrm>
            <a:off x="838080" y="19051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9" descr="http://4.bp.blogspot.com/_Be2LUWWTHNU/TUQ6k4AvifI/AAAAAAAAAao/6Kuwo4E_4aE/s1600/Marilyn-Monroe.jpg"/>
          <p:cNvPicPr/>
          <p:nvPr/>
        </p:nvPicPr>
        <p:blipFill>
          <a:blip r:embed="rId14"/>
          <a:stretch/>
        </p:blipFill>
        <p:spPr>
          <a:xfrm>
            <a:off x="2209680" y="188928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1" descr="http://4.bp.blogspot.com/_jL4zJWMslgc/TRoYfxBoe2I/AAAAAAAAFj8/N-fVWx9SG7w/s1600/marilyn-monroe-20060111-100686.jpg"/>
          <p:cNvPicPr/>
          <p:nvPr/>
        </p:nvPicPr>
        <p:blipFill>
          <a:blip r:embed="rId15"/>
          <a:stretch/>
        </p:blipFill>
        <p:spPr>
          <a:xfrm>
            <a:off x="3505320" y="1905120"/>
            <a:ext cx="1371600" cy="120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3" descr="http://3.bp.blogspot.com/_c_91E8QhHv0/SswQdUznA4I/AAAAAAAAB18/F54WauDKRDM/s400/Bob-Henriques-Marilyn-Monroe-207193.jpg"/>
          <p:cNvPicPr/>
          <p:nvPr/>
        </p:nvPicPr>
        <p:blipFill>
          <a:blip r:embed="rId16"/>
          <a:stretch/>
        </p:blipFill>
        <p:spPr>
          <a:xfrm>
            <a:off x="838080" y="320040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http://1.bp.blogspot.com/_5lFq76PmCNU/S9XxJ2FCc_I/AAAAAAAADQs/C42rc_j6WT8/s400/eve-arnold-marilyn-monroe.jpg"/>
          <p:cNvPicPr/>
          <p:nvPr/>
        </p:nvPicPr>
        <p:blipFill>
          <a:blip r:embed="rId17"/>
          <a:stretch/>
        </p:blipFill>
        <p:spPr>
          <a:xfrm>
            <a:off x="2133720" y="3200400"/>
            <a:ext cx="1295280" cy="127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7" descr="http://scm-l3.technorati.com/09/10/28/747/marilyn-monroe.jpg"/>
          <p:cNvPicPr/>
          <p:nvPr/>
        </p:nvPicPr>
        <p:blipFill>
          <a:blip r:embed="rId18"/>
          <a:stretch/>
        </p:blipFill>
        <p:spPr>
          <a:xfrm>
            <a:off x="3581280" y="3200400"/>
            <a:ext cx="1219320" cy="127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9" descr="http://3.bp.blogspot.com/_RLJL7ljMVcE/Swwj9DBQujI/AAAAAAAAACg/I94JWX1Its8/s1600/cecil,beaton,marilyn,monroe,photo,photography,vintage-be54fd3f55882b9779386b55cd7e16f6_h.jpg"/>
          <p:cNvPicPr/>
          <p:nvPr/>
        </p:nvPicPr>
        <p:blipFill>
          <a:blip r:embed="rId19"/>
          <a:stretch/>
        </p:blipFill>
        <p:spPr>
          <a:xfrm>
            <a:off x="5029200" y="18288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0" descr="http://www.curly-hair-styles-magazine.com/images/marilyn-monroe-hair-style-06.jpg"/>
          <p:cNvPicPr/>
          <p:nvPr/>
        </p:nvPicPr>
        <p:blipFill>
          <a:blip r:embed="rId20"/>
          <a:stretch/>
        </p:blipFill>
        <p:spPr>
          <a:xfrm>
            <a:off x="152280" y="533520"/>
            <a:ext cx="639720" cy="76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1" descr="http://www.popartuk.com/g/l/lgcvf008+grand-central-station-marilyn-monroe-canvas-canvas.jpg"/>
          <p:cNvPicPr/>
          <p:nvPr/>
        </p:nvPicPr>
        <p:blipFill>
          <a:blip r:embed="rId21"/>
          <a:stretch/>
        </p:blipFill>
        <p:spPr>
          <a:xfrm>
            <a:off x="838080" y="1905120"/>
            <a:ext cx="1203480" cy="121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0" descr="http://www.curly-hair-styles-magazine.com/images/marilyn-monroe-hair-style-06.jpg"/>
          <p:cNvPicPr/>
          <p:nvPr/>
        </p:nvPicPr>
        <p:blipFill>
          <a:blip r:embed="rId22"/>
          <a:stretch/>
        </p:blipFill>
        <p:spPr>
          <a:xfrm>
            <a:off x="3657600" y="5029200"/>
            <a:ext cx="990720" cy="124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8" descr="http://www.kenheyman.com/imgs/homepage/mm_am.jpg"/>
          <p:cNvPicPr/>
          <p:nvPr/>
        </p:nvPicPr>
        <p:blipFill>
          <a:blip r:embed="rId23"/>
          <a:stretch/>
        </p:blipFill>
        <p:spPr>
          <a:xfrm>
            <a:off x="2133720" y="5105520"/>
            <a:ext cx="914400" cy="99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8" descr="http://t2.gstatic.com/images?q=tbn:ANd9GcTT15RtbL9tMP82qMjgxDbOYcbkTv56txH2Jq8guxdojted93RyKrOTFiY"/>
          <p:cNvPicPr/>
          <p:nvPr/>
        </p:nvPicPr>
        <p:blipFill>
          <a:blip r:embed="rId24"/>
          <a:stretch/>
        </p:blipFill>
        <p:spPr>
          <a:xfrm>
            <a:off x="838080" y="5029200"/>
            <a:ext cx="8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7" descr="http://topwebtoday.files.wordpress.com/2010/06/new-facebook-notifications-2.jpg"/>
          <p:cNvPicPr/>
          <p:nvPr/>
        </p:nvPicPr>
        <p:blipFill>
          <a:blip r:embed="rId25"/>
          <a:stretch/>
        </p:blipFill>
        <p:spPr>
          <a:xfrm>
            <a:off x="0" y="0"/>
            <a:ext cx="1447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6T15:10:00Z</dcterms:modified>
  <cp:revision>36</cp:revision>
  <dc:subject/>
  <dc:title>Profile</dc:title>
</cp:coreProperties>
</file>